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5C0-2671-4860-B6CF-EAD1D93C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D01-6995-45E3-9A8D-D106C49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D40-38A9-4416-841C-FAF3F56F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E90-D6EA-4B74-8270-79C93238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B99-3036-4FD0-865A-8D35F82B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4A4-20DB-4D30-B30E-2197E88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C5C-B68B-4B8E-A3EE-1AEE0441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E30-72DE-4F6A-A112-3D0692F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3BE-C34A-44DC-AA39-D652AEA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F02-7A0D-4BEC-A496-6F6CFA9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313-B870-4F00-BB37-DF278C3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DDC-3E5D-4D0F-84E5-7DEB077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8A3-FBD8-4E7A-BBD0-ECD08C21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do I write a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?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8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0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130560" y="5126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329520" y="533520"/>
            <a:ext cx="1828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119480" y="9144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362320" y="1523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0880" y="1371600"/>
            <a:ext cx="99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152352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80880" y="2057400"/>
            <a:ext cx="8305920" cy="18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47712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57800" y="4191120"/>
            <a:ext cx="34290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10080" y="5181480"/>
            <a:ext cx="2057400" cy="764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41911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3526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3505320" y="53341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Colleg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4340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553080" y="1752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7238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143000" y="53341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34290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3657600" y="64767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447560" y="12193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gree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>
            <a:hlinkClick r:id="rId3" action="ppaction://hlinksldjump"/>
          </p:cNvPr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>
            <a:hlinkClick r:id="rId4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904760" y="5334120"/>
            <a:ext cx="56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lide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46240" y="6858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greeting uses two 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s 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>
            <a:hlinkClick r:id="rId2" action="ppaction://hlinksldjump"/>
          </p:cNvPr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rId3" action="ppaction://hlinksldjump"/>
          </p:cNvPr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bs01886_[1]"/>
          <p:cNvPicPr/>
          <p:nvPr/>
        </p:nvPicPr>
        <p:blipFill>
          <a:blip r:embed="rId4"/>
          <a:stretch/>
        </p:blipFill>
        <p:spPr>
          <a:xfrm>
            <a:off x="1523880" y="4114800"/>
            <a:ext cx="90036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6019920" y="41148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>
            <a:hlinkClick r:id="rId1" action="ppaction://hlinksldjump"/>
          </p:cNvPr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79680" y="12193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Click on the correct clo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4400" y="533412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15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90920" y="23623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84240" y="53352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The closing has one capital l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and a com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90920" y="3276720"/>
            <a:ext cx="327636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590920" y="41911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90920" y="5105520"/>
            <a:ext cx="327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s01886_[1]"/>
          <p:cNvPicPr/>
          <p:nvPr/>
        </p:nvPicPr>
        <p:blipFill>
          <a:blip r:embed="rId1"/>
          <a:stretch/>
        </p:blipFill>
        <p:spPr>
          <a:xfrm>
            <a:off x="1447920" y="320040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761760" cy="72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5790600" y="6095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14600" y="3276720"/>
            <a:ext cx="5867280" cy="71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after the head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14600" y="4191120"/>
            <a:ext cx="5867280" cy="71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14600" y="1828800"/>
            <a:ext cx="58672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 between the body and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s01884_[1]"/>
          <p:cNvPicPr/>
          <p:nvPr/>
        </p:nvPicPr>
        <p:blipFill>
          <a:blip r:embed="rId1"/>
          <a:stretch/>
        </p:blipFill>
        <p:spPr>
          <a:xfrm>
            <a:off x="1295280" y="2057400"/>
            <a:ext cx="649440" cy="652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904400" y="533412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 Slide 18 here to go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57400" y="12952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Elephant"/>
              </a:rPr>
              <a:t>Sorry!  Try agai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5880" y="5335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rite friendly letters to people we know well.  We might write a friendly letter to our parents, grandparents, or 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297733"/>
          <p:cNvPicPr/>
          <p:nvPr/>
        </p:nvPicPr>
        <p:blipFill>
          <a:blip r:embed="rId1"/>
          <a:stretch/>
        </p:blipFill>
        <p:spPr>
          <a:xfrm>
            <a:off x="2705040" y="38098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514600" y="5029200"/>
            <a:ext cx="58672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ween each letter part and para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856160" y="6858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Where are lines ski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bs01886_[1]"/>
          <p:cNvPicPr/>
          <p:nvPr/>
        </p:nvPicPr>
        <p:blipFill>
          <a:blip r:embed="rId1"/>
          <a:stretch/>
        </p:blipFill>
        <p:spPr>
          <a:xfrm>
            <a:off x="1447920" y="5181480"/>
            <a:ext cx="90000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8153280" y="525780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1560" y="6248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7696080" y="457200"/>
            <a:ext cx="486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02120" y="4572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540800" y="5791320"/>
            <a:ext cx="23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3352680" y="12193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28560" y="579132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3962520" y="2819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1542600" y="5791320"/>
            <a:ext cx="14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7620120" y="5105520"/>
            <a:ext cx="4856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532880" y="57913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7010280" y="5562720"/>
            <a:ext cx="486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9840" y="22860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Name the high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Elephant"/>
              </a:rPr>
              <a:t>letter 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526040" y="5791320"/>
            <a:ext cx="26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Elephant"/>
              </a:rPr>
              <a:t>Sig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151560" y="6461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for NEXT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38080" y="228600"/>
            <a:ext cx="63248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w you know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write a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riendly letter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" descr="BD05415_"/>
          <p:cNvPicPr/>
          <p:nvPr/>
        </p:nvPicPr>
        <p:blipFill>
          <a:blip r:embed="rId1"/>
          <a:stretch/>
        </p:blipFill>
        <p:spPr>
          <a:xfrm>
            <a:off x="4267080" y="3200400"/>
            <a:ext cx="423720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Object 4"/>
          <p:cNvGraphicFramePr/>
          <p:nvPr/>
        </p:nvGraphicFramePr>
        <p:xfrm>
          <a:off x="4267080" y="3124080"/>
          <a:ext cx="6098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124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Text Box 5"/>
          <p:cNvSpPr/>
          <p:nvPr/>
        </p:nvSpPr>
        <p:spPr>
          <a:xfrm>
            <a:off x="0" y="5715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by Barbara Cloninger-June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 included by Vanda Sue Bell-September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880" y="2362320"/>
            <a:ext cx="8305920" cy="31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858000" y="25146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4120" y="586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334120" y="62485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528480" y="1828800"/>
            <a:ext cx="808704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567160" y="240984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j0351406"/>
          <p:cNvPicPr/>
          <p:nvPr/>
        </p:nvPicPr>
        <p:blipFill>
          <a:blip r:embed="rId2"/>
          <a:stretch/>
        </p:blipFill>
        <p:spPr>
          <a:xfrm>
            <a:off x="4853160" y="733320"/>
            <a:ext cx="3963960" cy="37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j0352060"/>
          <p:cNvPicPr/>
          <p:nvPr/>
        </p:nvPicPr>
        <p:blipFill>
          <a:blip r:embed="rId3"/>
          <a:stretch/>
        </p:blipFill>
        <p:spPr>
          <a:xfrm>
            <a:off x="128520" y="42876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041560" y="1158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76920" y="533520"/>
            <a:ext cx="3886200" cy="129528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733920" y="121896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85800" y="266688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part of a friendly letter is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heading includes the writer’s address and the date.  The heading is written in the upper right-hand corner of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j0199711"/>
          <p:cNvPicPr/>
          <p:nvPr/>
        </p:nvPicPr>
        <p:blipFill>
          <a:blip r:embed="rId1"/>
          <a:stretch/>
        </p:blipFill>
        <p:spPr>
          <a:xfrm>
            <a:off x="228600" y="5335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819520" y="9698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57800" y="5335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886200" y="114264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80060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04920" y="2286000"/>
            <a:ext cx="3276360" cy="5814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3657240" y="25146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033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art of the friendly letter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It is written under the heading at the left margin.  It begins with a capital letter and ends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j0212697"/>
          <p:cNvPicPr/>
          <p:nvPr/>
        </p:nvPicPr>
        <p:blipFill>
          <a:blip r:embed="rId1"/>
          <a:stretch/>
        </p:blipFill>
        <p:spPr>
          <a:xfrm>
            <a:off x="6858000" y="2133720"/>
            <a:ext cx="143496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197734"/>
          <p:cNvPicPr/>
          <p:nvPr/>
        </p:nvPicPr>
        <p:blipFill>
          <a:blip r:embed="rId2"/>
          <a:stretch/>
        </p:blipFill>
        <p:spPr>
          <a:xfrm>
            <a:off x="533520" y="304920"/>
            <a:ext cx="127620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457200"/>
            <a:ext cx="632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ay to the person you are writing to?  We put what we want to say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. 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tter is in paragraph form.  The first line of each paragraph is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90640" y="3886200"/>
            <a:ext cx="7391520" cy="253116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4191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359575"/>
          <p:cNvPicPr/>
          <p:nvPr/>
        </p:nvPicPr>
        <p:blipFill>
          <a:blip r:embed="rId1"/>
          <a:stretch/>
        </p:blipFill>
        <p:spPr>
          <a:xfrm>
            <a:off x="6858000" y="914400"/>
            <a:ext cx="18334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043000" y="115884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257800" y="533520"/>
            <a:ext cx="3200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1 East Duke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ley, N.C.  28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5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2971800" y="11430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19720" y="1981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82880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Ph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 flipV="1">
            <a:off x="3733920" y="20570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2743200"/>
            <a:ext cx="8305920" cy="3765600"/>
          </a:xfrm>
          <a:prstGeom prst="rect">
            <a:avLst/>
          </a:prstGeom>
          <a:solidFill>
            <a:srgbClr val="d82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as your summer been?  Not too hot I hope.   Did you get to visit your grandparents?  Did you go on your trip to Toronto as you had hoped?  They say Toronto is a beautiful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y second season at Camp Bellaire.  I just passed my swimming test.  Now I can swim out to the raft and also use the boats.  To pass I had to jump into the water with my clothes on (as if I had just fallen out of a boat).  Then I had to take them off down to my trunks, even my shoes and socks, and finally swim back to shore.  It was tough, but I did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looking forward to seeing you soon.  There is lots of news to catch up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5530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934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j0356441"/>
          <p:cNvPicPr/>
          <p:nvPr/>
        </p:nvPicPr>
        <p:blipFill>
          <a:blip r:embed="rId1"/>
          <a:stretch/>
        </p:blipFill>
        <p:spPr>
          <a:xfrm>
            <a:off x="0" y="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85800" y="990720"/>
            <a:ext cx="74674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last parts on the friendly letter.  Your closing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ned up directly under heading.  It begins with a capital letter and ends with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name written directly under the cl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j0318704"/>
          <p:cNvPicPr/>
          <p:nvPr/>
        </p:nvPicPr>
        <p:blipFill>
          <a:blip r:embed="rId1"/>
          <a:stretch/>
        </p:blipFill>
        <p:spPr>
          <a:xfrm>
            <a:off x="6705720" y="1828800"/>
            <a:ext cx="1544400" cy="18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318708"/>
          <p:cNvPicPr/>
          <p:nvPr/>
        </p:nvPicPr>
        <p:blipFill>
          <a:blip r:embed="rId2"/>
          <a:stretch/>
        </p:blipFill>
        <p:spPr>
          <a:xfrm>
            <a:off x="380880" y="1981080"/>
            <a:ext cx="1168560" cy="181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8:35:35Z</dcterms:created>
  <dc:creator>Barbara Cloninger</dc:creator>
  <dc:description/>
  <dc:language>en-US</dc:language>
  <cp:lastModifiedBy>tammy</cp:lastModifiedBy>
  <dcterms:modified xsi:type="dcterms:W3CDTF">2012-11-25T16:46:12Z</dcterms:modified>
  <cp:revision>41</cp:revision>
  <dc:subject>Language Arts</dc:subject>
  <dc:title>How Do I Write a Friendly Letter</dc:title>
</cp:coreProperties>
</file>